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A08-6943-4251-B3C7-D13FBEEE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B92-CFD1-442A-B66A-DC2A4FF3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28F5F-1BFF-42AD-8382-BAD82B7B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0FB1E-6661-4859-BB7D-D91AB186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6C7F0-BDA2-4626-8370-7312E83F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393AC-07C7-472B-BEAE-84E0495B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D66A2-45DF-4E4E-8EE8-FF05F630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0CD41-E686-4329-81FB-8AD02AE3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E9D4D-1FAF-449B-A51C-71BFA58E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DF278-69D5-4900-A11D-FD7FA924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D1C51-D533-4E25-A7C6-32D35EB2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D32E4-E424-4088-820B-419425EF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20A-2496-45C2-A650-B905AB87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FB458-D926-419E-9472-FD5D7489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4827B-C6C3-46BC-B524-7E47A62C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317DB-1238-4DE9-8923-605ED279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0A832-4BCB-45B2-A345-EF8E3022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E184C-94A4-4221-B2E4-DCF66C22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DA633-2084-428C-B6E3-771DB14F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9F488-84ED-47A9-926A-076991F7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1E60F-6F19-4918-858E-A2A410D3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BDA61-B7F2-4747-9688-02AC4A5B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A1C6F-0632-497A-9B72-8356C772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D07-4002-49C6-8DB8-84E31ACA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D6CA7-3334-4812-9C7B-B88E9255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D68D3-B425-48A5-B0D3-71C1DAB5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B9A1E-2B96-4073-895F-F929336E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2BBCC-2B63-4B73-86B7-E8322C59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6D72C-63F6-4F13-BD6D-E7652B8D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53F00-FF6B-47A7-BE53-4C01F455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D316E-9389-481E-9985-3F727C19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6CFF8-75BF-4812-A958-EA8CD0B1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90415-AC96-4E6C-9053-4A20F047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36CAF-F57E-4E61-AF4D-96C0B369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7D92-AB53-4DD1-895E-BF81302D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31A73-8C33-42CE-AA9E-14D8F7FF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AD9C1-CA8E-4683-8211-D2D23BF3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70CF0-78BC-4772-A42D-583916C7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4EC49-EE2E-4635-B492-2476119A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C97C0-3ECB-42FA-B7CD-0ABFFEC0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95004-867D-4483-8845-A873B4D7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15035-1548-4822-8A9C-3FE634E6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5E3DE-915D-49D0-891E-776C6047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CB6A7-11E9-44FA-B6DC-C37A8F7D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6CFCD-F02F-43E3-8B78-B2941EF9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E2B1-F6DC-4C48-B48B-5D5EE813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64F63-D7D8-4AC9-BC3B-BADA8F5E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466B0-F5DF-4854-B30E-2800AE43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23277-8840-435D-854D-5F69EA1C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FB75B-267C-4B7F-98C3-E3160DFB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621A2-F982-4E84-91E4-4486EDA4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FE1D-F059-465A-B0F7-0C82EBE8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8B5D-612B-424F-A011-F3DCD3F8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F7EC-281F-4EE9-9212-BE8AE195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5FEC-F2E4-48FD-AB0A-A8CFD996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F0D8-0277-41A1-AC81-291D1082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43C-DEDF-4B07-A9B0-C85688E3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3781-0628-4F90-AED4-6E3F3A0F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4DA3-C43B-43C1-A7AE-1E35F02C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635A-3AAE-4507-A62D-59249D71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09F0-E516-46A8-A99D-95E27F40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4F30-EF38-4A97-B6A8-391FF167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B1E9-7509-475C-AC2F-D1C5BB5C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D3CB-3DE0-4C14-806F-2E84D8DF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36C8B-CA5E-4F51-9AF9-80DA28B4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4C7A-26C6-4B23-AF9F-4B4A11D0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C36C-8690-4FE6-A7CD-94D05983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128-1D2B-4FEB-A457-4E1E9133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32DE6-C639-426C-8A08-AB8C257B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C4BA0-18BC-4E59-8E0D-A98ACFF6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E773-5F44-4DB0-8BD1-72C43AC5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081A-D68D-4E6D-861D-63ACD233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11D2-A2FA-4ECC-8255-4317FAB9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AB4CA-7103-4C8B-904A-1ABB3F56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0311-0DC4-49DD-BD2E-8593B36A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E0A1-B890-4E4E-89E7-1197BA76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C0DEF-39A2-4FD0-9665-3B69D6CC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45EDD-061C-4B8B-A940-FD3FFE98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02A-6910-4841-92C1-5FED6483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43B1C-0B47-4915-A42F-3AAE5F41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B11D-11FF-4A7A-AFAA-489C0C3A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B469-AE3F-4DBF-91DC-FD023E7A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D4166-8CE8-4CE8-B292-87F5FCC7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B130-764E-4E74-89E6-CA40993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4BDEF-F6C6-47E3-912B-B74F7E10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88DA-6193-4A7A-A53D-8E39F4F2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A3A0-4411-479A-93BA-A2CF4087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0E41C-0ED7-4158-9C81-DBD77A10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4EF93-DD80-4718-972E-9E2D430D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71D-D15D-45CA-BDCB-F758D463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CB17-26FA-4BEE-8EC9-380C11B2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69475-6F3D-4261-A0B7-541E39E3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08873-DB82-44D5-8890-3BC51305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E3E0C-0D7E-46D9-BFB1-2225081C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EE0E6-ACE7-47B9-9ED9-1D2BE69D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BCEC4-AD56-4C1E-BA7A-4ABF3E5D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59B1D-FD5E-4AAC-839F-FA7D8FA1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316C2-4E90-462C-980B-54276094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51182-2776-435D-AAA4-AF11A28A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47CC0-6EEC-4B82-A5EE-F8B6C91B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04B-292E-4920-BEDA-6A3BA935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8394A-7414-4AA4-AFAB-E8FC32AC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D7BFC-6523-4A01-8C9F-DFCB5285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ED0E9-214F-44B2-93E9-93931EF1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05DB7-61B6-4ED8-B623-D94D4AD0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4455C-8CAE-4246-B007-626C3240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B6F0-12FA-47D2-BC27-5D8186EA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0CDDC-DF9F-45C9-A452-D1DF9DCC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567E-BDE9-4DDA-8BF5-51B8818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306E3-17DB-43B3-80F7-84568E74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DEB76-83A6-4734-9A03-1DDB3D2B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085-50F2-40C4-BF7D-69B007A7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697B-1A12-4B75-B163-CB0CD287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2B08C-ECCA-48E8-BD23-719ECF1B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9F774-D42F-4F75-92E9-D46DAFA7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20907-86CD-42E5-ADB8-B17108FA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1DCA7-3F68-41A3-A49C-49E4FAB4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60671-3940-4623-86B0-74240213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BDAC1-1C21-4A7D-B13F-D4982858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0DAA3-3BE3-468A-BEF0-97CEE026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295C5-2EE3-4946-9CA8-73528A7D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85B1A-DAEE-4DA3-95FB-25593995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07B-1B4E-4D7D-86F7-72F4E4EA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0392B-3E93-4781-9D45-D780304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5288E-5E58-4ED9-BBC3-2946D514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10FEE-6698-4C14-BB26-3466138D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0BF85-74BE-444C-A2E6-03D23B20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65018-654E-457C-82C0-7AFAF8FC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71066-516F-43F4-AE1F-CEB4AFDB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C4765-ADFA-4F27-8A59-D966B1E6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5C49B-1420-42C1-AB53-B4A679A5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B0F85-63FB-4EB5-9F88-7E11938C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DD4A0-E40A-4B8E-AE0E-838BAAD0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D7A-C893-43E9-BD8E-D2993A44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0DECC-FDBA-4C4D-BFF8-712509CD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8CD7B-9901-4A42-84EA-E1898DC1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B2E51-7D40-44C3-B139-7F657D59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BA708-C257-4FF3-BA57-A5D5B7CD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9430B-998A-4FB9-8AF9-037828D2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A35FB-33B9-4015-BF76-3759D096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25939-6B5E-40D9-8F6A-0599FCC2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CA720-3489-40D2-8568-C1C7EF0B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86D57-5C4E-408C-97CD-FCC08660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DF003-F3EB-4BA2-90A5-3E44ABBB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BB58-1454-44A8-AF0B-E4DEEF39B3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1299-0E2F-4B03-9310-32773E640B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6353-4829-40A8-BF54-8C8651000B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C293-AF86-4E0C-9091-7ED2DE1403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6049-E57D-490A-A5A8-82AB3C380D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413E-EC62-4554-8652-7A3ECADBB0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8B33-DB79-4413-8559-43A7127535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C753-CAC6-4CDE-B5AA-658E92CBFD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E599-5971-4ED8-8CFA-A818DF3AAD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ADAD-9A04-43F3-A669-AA1E44EB22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2CD6-58A2-4B18-9B17-2E2DD88056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290F-63B6-4FED-B6E4-246D04EDEE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251460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ook at the world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imah .R.,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thuja .J. &amp;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wshia .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143000" y="2514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enetic Engineer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Branches of sciences needed to study the techn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447920" y="205704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ene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dic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iology/Chem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iochem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icrobi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hemical Engine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What professions use this technolog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523520" y="182844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biolog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aboratory technic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search as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ecturer or profes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hief Executive Officer of a biotech comp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stdoctoral research assoc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Genetic Engineer Researc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iotechnolog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Picture 5" descr="69340-microbiologist"/>
          <p:cNvPicPr/>
          <p:nvPr/>
        </p:nvPicPr>
        <p:blipFill>
          <a:blip r:embed="rId1"/>
          <a:stretch/>
        </p:blipFill>
        <p:spPr>
          <a:xfrm>
            <a:off x="6553080" y="1905120"/>
            <a:ext cx="16765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Courses offered at Univers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523520" y="17521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ffff"/>
                </a:solidFill>
                <a:uFillTx/>
                <a:latin typeface="Tahoma"/>
              </a:rPr>
              <a:t>University of Toronto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uman Biology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Genes, genetic and biotechnology specialities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400" spc="-1" strike="noStrike" u="sng">
                <a:solidFill>
                  <a:srgbClr val="ffffff"/>
                </a:solidFill>
                <a:uFillTx/>
                <a:latin typeface="Tahoma"/>
              </a:rPr>
              <a:t>York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Biotechnology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Requirements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 Grade 12 Chemistry, Calculus and Advanced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Grade 12 Physics is highly recommen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ther Requirements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team worker, honest, creative, has problem solving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Picture 5" descr="utoronto-logo"/>
          <p:cNvPicPr/>
          <p:nvPr/>
        </p:nvPicPr>
        <p:blipFill>
          <a:blip r:embed="rId1"/>
          <a:stretch/>
        </p:blipFill>
        <p:spPr>
          <a:xfrm>
            <a:off x="7315200" y="1523880"/>
            <a:ext cx="1123920" cy="1109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york-logo"/>
          <p:cNvPicPr/>
          <p:nvPr/>
        </p:nvPicPr>
        <p:blipFill>
          <a:blip r:embed="rId2"/>
          <a:stretch/>
        </p:blipFill>
        <p:spPr>
          <a:xfrm>
            <a:off x="6629400" y="5715000"/>
            <a:ext cx="236232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599840" y="1066320"/>
            <a:ext cx="7162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enetic engineering is direct manipulation of an organism’s ge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ost common uses of genetic engineering are in medic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very controversial topic considering the ethic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Variety of sciences are incorporated into this engineer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ny professions use this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2388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Reference L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Career Details for Biotechnologist. (n.d.). December 14, 2008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careercruising.com/Careers/JobDetails.aspx?LoginID=53770d7f-cddd-449d-970d-8cb29415fa18-&amp;OccNumber=603&amp;Language=English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Engdahl, Sylvia, ed. </a:t>
            </a:r>
            <a:r>
              <a:rPr b="0" lang="en-CA" sz="1200" spc="-1" strike="noStrike" u="sng">
                <a:solidFill>
                  <a:srgbClr val="ffffff"/>
                </a:solidFill>
                <a:uFillTx/>
                <a:latin typeface="Tahoma"/>
              </a:rPr>
              <a:t>Genetic Engineering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. Bonnie Szumski, 2006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"Genetic Engineering" </a:t>
            </a:r>
            <a:r>
              <a:rPr b="0" lang="en-CA" sz="1200" spc="-1" strike="noStrike" u="sng">
                <a:solidFill>
                  <a:srgbClr val="ffffff"/>
                </a:solidFill>
                <a:uFillTx/>
                <a:latin typeface="Tahoma"/>
              </a:rPr>
              <a:t>Encyclopedia Britannica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. 2008. Encyclopedia Britannica Online Library Edition. 13 Dec. 2008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Genetic Engineering." Wikipedia, The Free Encyclopedia. 12 Dec. 2008, &lt;http://en.wikipedia.org/wiki/genetic_engineering#genetic_engineering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Genetic Engineering Research Scientist Job Description, Career as a Genetic Engineering Research Scientist, Salary, Employment - Definition and Nature of the Work, Education and Training Requirements, Getting the Job. December 14, 2008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careers.stateuniversity.com/pages/402/Genetic-Engineering-Research-Scientist.html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Heaf, D. (2004, January 25). Becoming a Genetic Engineer. December 14, 2008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www.ifgene.org/gecareer.htm.&gt;"Human's Playground: Genetic Engineering." Think quest. 11 Dec. 2008 &lt;http://library.thinkquest.org/04apr/00774/en/txt/uses_medicine.html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MacDonald Glenn, Linda. "Bio Med Law." 13 Dec. 2008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www.biomedlaw.com./bioethics.php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cDonald Glenn, Linda. "Ethical Issues in Genetic Engineering and Transgenic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ctionbioscience.org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. American Institute of Biological Sciences. 13 Dec. 2008 &lt;http://www.actionbioscience.org/biotech/glenn.html&gt;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McLeish, Ewan. </a:t>
            </a:r>
            <a:r>
              <a:rPr b="0" lang="en-CA" sz="1200" spc="-1" strike="noStrike" u="sng">
                <a:solidFill>
                  <a:srgbClr val="ffffff"/>
                </a:solidFill>
                <a:uFillTx/>
                <a:latin typeface="Tahoma"/>
              </a:rPr>
              <a:t>Genetic Revolution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. New York: Stargazer Books, 2006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Wilson, R. (2006, July 19). Human Biology at the University of Toronto. December 14, 2008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www.hmb.utoronto.ca/ggb.asp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York University - Biology Undergraduate - Biotechnology. (n.d.). Retrieved December 14, 2008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www.yorku.ca/ugbio/Programs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Your Thoughts on..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30" name="Picture 5" descr="C:\Users\Owner\AppData\Local\Microsoft\Windows\Temporary Internet Files\Content.IE5\2SUOHE4G\MCj04244740000[1].wmf"/>
          <p:cNvPicPr/>
          <p:nvPr/>
        </p:nvPicPr>
        <p:blipFill>
          <a:blip r:embed="rId1"/>
          <a:stretch/>
        </p:blipFill>
        <p:spPr>
          <a:xfrm>
            <a:off x="2286000" y="3886200"/>
            <a:ext cx="2438280" cy="25750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7"/>
          <p:cNvGrpSpPr/>
          <p:nvPr/>
        </p:nvGrpSpPr>
        <p:grpSpPr>
          <a:xfrm>
            <a:off x="3429000" y="1219320"/>
            <a:ext cx="4952880" cy="2590560"/>
            <a:chOff x="3429000" y="1219320"/>
            <a:chExt cx="4952880" cy="2590560"/>
          </a:xfrm>
        </p:grpSpPr>
        <p:sp>
          <p:nvSpPr>
            <p:cNvPr id="532" name="Cloud Callout 5"/>
            <p:cNvSpPr/>
            <p:nvPr/>
          </p:nvSpPr>
          <p:spPr>
            <a:xfrm>
              <a:off x="3429000" y="1219320"/>
              <a:ext cx="4952880" cy="2590560"/>
            </a:xfrm>
            <a:prstGeom prst="cloudCallout">
              <a:avLst>
                <a:gd name="adj1" fmla="val -26620"/>
                <a:gd name="adj2" fmla="val 71453"/>
              </a:avLst>
            </a:prstGeom>
            <a:solidFill>
              <a:srgbClr val="ffffff"/>
            </a:solidFill>
            <a:ln w="9360">
              <a:solidFill>
                <a:srgbClr val="3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Box 3"/>
            <p:cNvSpPr/>
            <p:nvPr/>
          </p:nvSpPr>
          <p:spPr>
            <a:xfrm>
              <a:off x="4114800" y="1828800"/>
              <a:ext cx="373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ff0000"/>
                  </a:solidFill>
                  <a:latin typeface="Tahoma"/>
                </a:rPr>
                <a:t>GENETIC ENGINEERING and its uses in our everyday lives considering everything that was discussed in the presentation!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5235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ntroduction to Genetic Engine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pplica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afety and Ethic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ranches of Scie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ses of this technology by prof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niversities/ Courses/ Requi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Genetic Engineer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676160" y="16002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rect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nipulating/altering the structure and characteristics of genes using molecular cloning &amp; trans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 from “normal” breeding – genes manipulat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di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ricultural Applica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99840" y="15235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es back 100 ye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, scientist u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combinant DNA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food made by recombinant DNA technology – Flavr Savr Tomatoes (199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0% of foods are genetically modifi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ution to world hu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uman &amp; Medical Applica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23520" y="19047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ion of Insu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Screening/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 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ion of experimental mice, oncomouse (cancer mous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9" name="Content Placeholder 3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oning and Stem Cel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447920" y="16002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created from one cell – not sex ce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ing – process of creating an identical copy of an original (Example: Identical Twi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m cells (master cells) can develop into any tissu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e their own disease or build new organs – NO RE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47920" y="274680"/>
            <a:ext cx="72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Ethics Involving Genetic Engineer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ical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ssues concerning human beings and animal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Are we playing God?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Religions beliefs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Creates new viru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Designer Bab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152352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ngineering and Pla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Effects on our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Long run effects on enviro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447920" y="274680"/>
            <a:ext cx="7238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Ethics Involving Genetic Engineer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3:03:29Z</dcterms:created>
  <dc:creator>abc</dc:creator>
  <dc:description/>
  <dc:language>en-US</dc:language>
  <cp:lastModifiedBy>Owner</cp:lastModifiedBy>
  <dcterms:modified xsi:type="dcterms:W3CDTF">2008-12-20T01:51:34Z</dcterms:modified>
  <cp:revision>51</cp:revision>
  <dc:subject/>
  <dc:title>Genetic Engineering</dc:title>
</cp:coreProperties>
</file>